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B35-7DDA-4B2D-95D3-398D1A11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6EF-AB74-4358-B1F4-12A97DAB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839-BFCE-4E15-8450-CCD85023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05F-97D9-4751-A3DC-8CF9D96E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A455A-31F3-46ED-BB11-14144C1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1C0B8-25F3-42ED-A15F-632AB494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5686C-3BED-4E6C-893F-4BAE5C70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6BC2-139E-4A2F-8273-D9793A71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DCA42-FE06-4371-B648-A5517D89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6DE7-6C22-4051-BE5B-71B02271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0B53-756B-4D3C-92CD-B35373A1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483-E6FD-42AF-AC17-C4B51025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831D0-B3E9-4E2E-BE41-BE6B1E87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07C19-9435-4018-B5B3-6F124246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1E4A9-A92A-4620-8285-81E82563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2B38-CCEA-41E2-9DA7-DCA56F2A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EEEF9-7A21-4F67-BDAE-20C3F4CB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15D-3E5C-4F1C-82A1-F80DBBB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EA2-55A6-4B78-9F08-681C7E26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FC2-7740-4F06-8922-F61D682A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925-FE61-4295-A0DA-0A8E663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1C06-15F9-4BE6-B56E-68DE14F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A9B-B152-43CF-90AD-875BABE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C9F-F8D0-4347-824D-E79BB8CE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7F65-1AD4-4B67-B934-83135F05F6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D4A-7A38-444A-9A59-4FFFAE78DD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e3e3ff"/>
                </a:solidFill>
                <a:latin typeface="Arial"/>
              </a:rPr>
              <a:t>Agenția de turism PLIMBĂREȚUL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e3e3ff"/>
                </a:solidFill>
                <a:uFillTx/>
                <a:latin typeface="Arial"/>
              </a:rPr>
              <a:t>Destinați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t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ond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i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udape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Mosco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a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agin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1:30:31Z</dcterms:created>
  <dc:creator>AS</dc:creator>
  <dc:description/>
  <dc:language>en-US</dc:language>
  <cp:lastModifiedBy>AS</cp:lastModifiedBy>
  <dcterms:modified xsi:type="dcterms:W3CDTF">2010-01-05T21:49:16Z</dcterms:modified>
  <cp:revision>2</cp:revision>
  <dc:subject/>
  <dc:title>Agenția de turism PLIMBĂREȚUL</dc:title>
</cp:coreProperties>
</file>